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4E36-5B01-4384-BE78-C61FEDA6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BCFF-8A98-45AC-9CC5-4A7EDF26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10341-C48E-43D7-A65C-F0E06F64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D58A9-FC0A-4878-A373-FEB54CAF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C5708-33BC-43A6-8921-F986597F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3C585-E8AF-4F81-A428-EF06477A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E6191-0DE2-4580-AEC8-B9C4C0BC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3E2B8-A303-4B88-94D1-5AA98A84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EDA7F-1F40-46CF-AA76-515E6CE1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B43CA-8405-469E-A3D4-195D5FC5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17B20-9124-49BD-A93C-F1E0195E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9D896-9B70-4270-AC28-B14A0FAE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F1D4-92E3-49AA-8422-1F34F020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9F1A4-7E3A-4BC6-97AE-A6332CCF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BCA9D-3CF2-4999-AA5E-977D3103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7F480-5394-4E6E-9E9B-47DD6724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7692A-6928-446A-BA36-00294FC9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D1110-90B8-4F99-925B-091A6384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82EFA-E2C8-432D-8E26-78A19BFC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46929-CE33-43AC-A1A0-130641C3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96DD3-7296-4530-98C6-B2B3168B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9A4E8-591D-45FE-84ED-5B867B31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4DAA3-EB01-4D9F-9F94-BB506147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1F31-CC03-4F21-93E8-02280242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263B8-94EA-4B45-8B5E-25408228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C51F7-2E2F-42DA-9451-F6D674F7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2AC27-3AD8-4061-AA90-2F441352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7BA82-0E13-47FE-B7D8-D910709C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8420B-A281-4EF5-BC32-F61A84E8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BB7D9-DE67-4C5A-A243-637EA123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44799-B941-4EB1-AAD6-E375E773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21D28-A195-44CE-A67C-25EA71D8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7991E-DA85-4EFC-9A01-115FFBCB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DECED-9FE1-4446-A5DA-533D7B7A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BFA0-0809-418D-A7EC-5E698D71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F9156-3754-4D2F-9ED2-618F25C9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88EFB-622B-4DD4-BD5F-8444B603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61BA3-EB97-4AA6-97C7-C8DCF412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31EBD-C666-491A-A74E-4C3B80E7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034659-B03A-4BBF-B448-27314889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265B0-C55F-4A0C-8FF9-0AE36009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1D731-9FC2-49F2-B5A3-8D6709B6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6D33E-DA95-4547-863E-1163453A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8D82D-1741-452E-BD64-5644F771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C4C75-EB10-487F-81A0-4FCA1ACB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F49C-5EF7-408E-A91A-5A309378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C5809-E23A-4573-A986-DEDEC211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06E05-3F73-4E43-9355-B32D3682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480F7-CF67-43F9-9F51-6BD8719F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74FB2-800C-4DA6-85B9-9FE3B424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4F271-70E7-4426-90E2-75E6AC45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6FC9ED-38F6-40EB-B6D6-7A240764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C5E8C5-DDCA-4599-A611-CB67DCA1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794CAF-8BB6-4FE3-B859-D515B350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844C3C-2232-42DE-BE55-AA9CE493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1BF566-DB28-4EC0-9AB2-7C0D98F6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C274-AAFB-4694-8B29-92073745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5AB654-089C-4C9F-AA6C-645AA921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CBD4AC-97EE-4DB2-8272-12CC7D98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794A22-DC04-474C-957A-4ABC64F1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01B96D-A554-4815-BEDF-066C6535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7D1E81-CA56-4433-A73E-9E5FFD28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20AEEE-586F-4CCD-AE8A-3E788C87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FC79A9-F3AC-4569-B6D8-A8FAAE7B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A5E5F9-B2EE-4D87-A1CB-3DCC0B63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444BEE-D0B8-4B22-B58D-E0C70AA8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A8BDA3-7FF6-4C21-A501-872A77E6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8287-D4DD-4048-BB55-1FC26355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ECBD8B-744D-4861-A5B7-2C6FC590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4DE720-14D2-4A7C-B479-68A36B69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D3B125-737D-44A7-9743-28BD7E90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117EE0-24A2-4B45-8315-AA3AE57A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9B3008-9663-4D30-AB16-1F8F7A88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230C06-C6F2-4E12-AC07-093F6DD6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562F42-A98F-4D4E-9E38-FD7B7C9E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5C1BBA-27F8-4EBE-A6F9-15D29A57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07526F-5D27-4DEB-AC37-F7932A9CB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D0CCC0-9338-4647-B78A-84F8A027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B0F3-BA02-45FF-A640-FCF1F926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22754F-70C2-4D96-A1A7-21882C51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59DDA3-C1EA-47E6-8489-D13C5C5F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82E3BF-BD6F-467C-BDB2-58B528D2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B57E82-A734-4E5E-BFBC-6F5FAF40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7E1E5D-7A3A-4F54-B544-E469C7F4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747071-26C7-4F0A-A50A-C1EBA54F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41E160-A4FE-40C4-9421-30B1B0AE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0A714A-5F91-4C8D-BE24-2CFD8233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77651E-F6B2-4079-A974-F1E01102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946209-3D76-4023-84A5-7C39E5F9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4752-8357-4140-9837-E9958393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BD60C8-AFDB-4134-86B9-E436D2D6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6B96E2-9755-4A95-85A7-841B7B71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BCA81A-F3E9-43D9-9EAD-1FBCC6EF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37F13E-792C-4D82-8FBA-A3EB9D72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1D2A16-7A01-4C1D-A863-CC14FFC4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A4A979-7ADD-469F-885B-3E349D97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F38687-9B77-4B1C-B506-70C0A26F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78763F-4F22-4403-A5E0-F3428217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0EB122-EAA2-49D1-B646-AD57FA4C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1CB96-563F-4E10-8C1E-DABCF085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9B16-6E3A-46D2-8B05-8E8E1067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371222-C885-4A29-8B41-DBF802A7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C868D7-FB0A-4785-A4B3-25476965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F972FE-33AD-4534-BDB0-7CB72591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5D4D4E-1956-4133-95AF-AC410A45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D411D6-7B74-486C-B8C3-5472ED39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CF01BB-536B-4B95-850D-FBCA5641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C64A68-D321-4AA4-8C20-E7871B49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77F874-4A65-4BA2-A4EC-43B24EE4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BE93AA-5E99-4962-BBC2-571217E3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5FD173-B543-4BA5-9A20-E0C7A7A8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CDCF-C405-482F-ADE5-EE6AE367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8DFE-6604-461B-B6FA-312820CC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05740D-D019-4F67-BAC8-A720C516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A07A3B-8182-45F9-BC82-BF108AA1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3B45EE-6B4D-4919-B5FF-66CF7778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53202F-A732-4959-A95E-39834613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7E9A03-5B45-411E-8264-69988E01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AC1740-81C8-47DE-B067-8C512330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B9A347-9C65-4E10-B8C0-224908AA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581E4E-B1A9-4F01-884A-D118B056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E81C25-A603-481B-9B07-FCB1DA81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B58382-F1CD-42AB-A1B1-252C430B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EB6E-C17D-473E-A1D9-4146D6B2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201C6F-E592-4441-BA47-A92C0FD4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BC0FAB-A27F-404C-A72A-D11964B0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17401F-D7F8-46A0-AF05-382BC66F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45584E-C01C-4C4C-BAF7-2EF0D108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4501B7-757A-4B60-98EC-74EBB071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8460F9-3640-49AA-A093-FF45D0D6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27E1CF-92A3-4724-9981-815E2CC3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A64C1C-0931-4ACB-83B0-347BB8A8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32A80C-64F6-47A5-83FC-C2CEC2D9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3B537C-2889-49EE-B251-50CCBAD5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ABC5-288B-440B-BF8D-6DDD3D2A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788BE7-7B90-4B1C-8B8A-F9516FE5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67A532-7704-4C2A-8292-E71F979F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4F4834-90FA-4302-834A-0928234F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DBD40B-BA98-435D-A31F-89B75E30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7973CC-FC06-43B7-A9E2-BD2F5556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628B93-A305-4A5B-BB99-21F30F4C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05E3E6-4C11-4D68-B421-A5BC9EE2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ADCD35-7D4E-496A-9F74-1CE82B26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169E4C-AB75-47F1-933B-C47AE660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E7B288-C7C1-4252-B521-37EA7497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C764-FA61-4B40-8523-19D62007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461D1C-AC4C-4EF2-AD21-DE00AC1D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0C5985-E131-480B-AC0A-CB05CC2B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5C9481-6097-4093-BD04-5EE58D8D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DA931D-1BA0-4896-A93C-31A81A49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7900AE-32D9-4FF3-BB88-2D81BE79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CE4D8D-C8DF-4E21-B2AB-84E87160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78599E-20A1-40A2-8139-AE35DA08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86849B-EBAA-4822-B772-AD9EA594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276456-54D8-45BF-A5EC-3EE565C2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7439A1-D171-4A13-9077-8315D07B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7218-BA7F-42B1-A7AA-A840EB03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B01EEB-9C9D-4272-ADDE-D96F812C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406157-A750-4AE7-8015-D9E85FCD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345CDA-DA4B-43DA-867F-F8EC29BC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DF9E3D-E270-43D8-97F1-690D5446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E6A5DC-E697-439E-BD82-9686C96B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0420EC-51DD-47AB-AE3D-EF3034EA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7CE6C9-EE16-4677-BE4E-AF77AA68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A11571-16CA-49F8-AF7F-A8B1B839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6AB69F-0766-4B11-B1AB-91FD1F75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BCD95A-E704-49C5-8DA6-61D76A1F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8BC58-AE9D-4F04-BCB0-D40F0571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B7283B-DB64-4E69-A99F-6F0E916D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A1028D-0AE2-4477-9A0B-9A1FC07F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11D259-818B-428D-B4EB-958919CD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A3150-2ED0-404C-8D22-CDFDA147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87655-004D-465F-8973-496FE59E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522AD-3992-4AD7-8750-BAC68424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D6DF0-BAA6-4EF4-94E7-F4811636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C247-FE8C-429E-B9D6-46244808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50D4D-A823-470E-926E-CB66D6B2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3AF9A-34B3-4AA9-A8BD-EFA8325F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9BF44-B70F-4C45-85A4-2D1F5078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2585B-629D-4FBC-8333-3C5339B4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9D527-BB01-4F82-BE16-E7E55ED6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376F3-7769-4FED-8045-87BA85AE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334D7-4CD8-47F3-B0DF-2E0D5FF0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5E55B-EDDE-4E01-B488-F51EC614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DEF56-B9BE-4E3E-91FD-BA0324E3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DCC43-8334-47ED-80CF-884DA58E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15D2-0DF3-4E80-BB02-F7DA4AB7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E82A1-58BF-4288-BA5E-CDF5885C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BA046-652E-4622-9507-A28A6096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220C0-58D1-4DDD-AE8A-2368EC4F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033CB-2C1F-45BD-B216-65808171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E56FD-0BCE-4055-8D05-7944C7C4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6A8A0-A923-4479-92D1-9A7918FF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29C7E-F2BC-44D0-BE7A-EC88528D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0A2A5-91CD-4BF3-8D08-A221162A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60056-122E-4326-8827-7CE5A7BE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4F69A-285D-4148-9685-392D47B22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2941-7218-4F35-99E7-C3255D42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1EF4D-8F0E-450E-B829-C29F4F71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05B5F-0417-4606-B073-C1F13051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A084F-36B3-48BF-994C-904695AC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38667-0250-4E7D-B397-384D87C1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8C46E-9E29-4B46-AF92-5DD76309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E8B3F-3A6C-4E1E-9FCB-EC44BD08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8A302-68EE-4362-AA01-DDAB7009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CDCC9-6514-495D-91F4-C7D872F0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8ABA7-4062-4BAE-949A-D2BE20B4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E7A52-0C83-401A-B26B-F3449AE3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CB12-DCD1-40F9-94CF-9CD03D4F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6AFF4-1C56-4C87-9A09-908CBFED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B797B-E654-455C-B3FA-87EFCBA7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7507C-48BA-44C3-A8FC-1E236A44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BF7D0-A1A4-4AC5-9578-896ECBBA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B4571-C42C-4736-BD57-38F0D3E5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AB772-9E00-49D7-BD71-B9AE4A44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460CA-6D69-440C-9F78-1CF0D31A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14E4D-86E3-433B-A62F-9D678C6D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151FF-6CE4-48F6-B39C-04335B74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D18DF-5BB3-4009-9EA4-160E4BD9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2A56-1ADD-4EEF-8BEF-1DFFD8FF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A7F2D-5492-4F17-B3AA-CA961FA3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D6846-CA24-4004-B402-47651186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80827-83F3-4088-AEE7-DCCD0929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18869-04B8-4DB9-904E-E5134F53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282C8-DAE4-441D-AFC3-1E424B10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C82DB-14E6-4A02-976B-41B89C4E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30926-8BF1-4CA0-87B1-32310657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105DC-6EC0-4892-A27B-F3D28A5F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2927E-A4AE-4A6E-B28F-C69E10C1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20A79-AC3A-4402-95F3-7A5AA24F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337B-1728-4427-BD04-46E83190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08272-99EB-4009-B87A-2106F64B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E778B-48C0-47C4-AF53-6265FA4E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3B2DB-1291-46A6-8CCA-D433CC13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B7977-11E1-4E56-A897-FD9EF3B8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F0898-4571-4790-A0F6-2ADA0AA2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48237-1CAD-467F-83CC-5E2A2551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23320-12D7-464D-9ACE-ABB78626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5350D-DFAC-4600-840D-F073F001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C862B-B02A-462E-A4D1-B2BA2915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67FAD-A3FB-4686-9FFA-06EF2CA8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87C8-C36A-49EE-8E2E-6BB2EA4D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75646-758B-434C-9866-B9CD559A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3369C-01DA-41BE-9AF3-80083883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6B7AE-9363-4D5A-BF62-7BE50920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106A4-1384-4BDA-94C2-105C70B1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7A62C-E1FD-49B5-BB18-DBE1045E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2B308-C539-40EC-84AA-39392F14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CB634-8C8B-44CE-A87E-B9717B9D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7B91B-062A-481A-AE85-B9CAD133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78EEF-1B19-4348-B82D-F764E79D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A046B-1C1A-4FAC-930F-17C6CCB8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4D86-67C1-4FF4-8952-32E1153B0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2EE7-96D8-4937-A735-AB788D02CC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AE5B-E34F-4E70-9BA4-7DF93D27EC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3F84-75AF-48EF-AA4A-5551D2016A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66D2-9A85-4EAA-ACF0-BCE986B864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DEC6-C33D-4B67-928D-47A1F2BAB5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47A1-6EFD-4BC1-8C1B-69D15D68F3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1E5B-7290-49A9-8EC7-CB14779DF1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03BA-BD7A-4779-9706-C3C75A5EE5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A69D-BA0F-4E65-9E6C-5C91E447AF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338C-99C6-4B3A-9F51-DE141E6E49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A0B7-32C4-4970-8731-6445199787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7439-B7FC-4F1C-9B59-DF05B48204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FE49-DEA5-4B04-A783-4F7F635386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2F40-E59F-4A3D-A884-186D2D518E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AA89-D0CE-439D-8186-296E0E5CAC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75F9-F403-4521-B758-F4257B65A0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6CA8-F8E9-436D-985E-E4BD876BDE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ED0B-B260-4283-8A8A-853F92E82E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00F8-8883-4F4B-B3F1-9C4FE6BF0F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8062-7280-47DF-97CF-1E3C75C3FC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086E-0AEF-4D07-B569-775644B29C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C039-2CBB-4091-875A-7FDE610640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16E6-B97A-44C8-994F-88351D2C2C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9C6E-AA0F-4F7A-9C38-F94ABB79CF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4ACD-7D9E-4732-B206-622D597F86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B792-F5B5-40B9-BFB6-CC5512851F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0C09-D81C-4244-A2E0-4DFB673B7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32BE-CCCF-46F5-8277-CAEB65455F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2AAF-7719-4BED-AC2E-8554376A59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137C-1403-4FDF-B58E-9585D4EDAA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039F-1F8C-4C1E-8D05-A26DE10FF6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CAD4-2684-45F6-AC92-A3995554C5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AE13-AD24-4AAD-92D7-17A3604870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9628-7E50-420D-9A91-41A54B9E49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518F-0144-4454-801F-E3DD39F4B0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3840-0F83-4DE0-B852-A41A17BE90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339B-292C-487B-88F6-A3D71EE08D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07AA-CAC3-4A56-B002-470495E3BA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F81C-4C3A-46E3-85F6-D7863403FC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26" descr=""/>
          <p:cNvPicPr/>
          <p:nvPr/>
        </p:nvPicPr>
        <p:blipFill>
          <a:blip r:embed="rId1"/>
          <a:stretch/>
        </p:blipFill>
        <p:spPr>
          <a:xfrm>
            <a:off x="100080" y="2604960"/>
            <a:ext cx="894384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9" name="Picture 1" descr=""/>
          <p:cNvPicPr/>
          <p:nvPr/>
        </p:nvPicPr>
        <p:blipFill>
          <a:blip r:embed="rId1"/>
          <a:stretch/>
        </p:blipFill>
        <p:spPr>
          <a:xfrm>
            <a:off x="690480" y="1236600"/>
            <a:ext cx="7763040" cy="500076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6" descr=""/>
          <p:cNvPicPr/>
          <p:nvPr/>
        </p:nvPicPr>
        <p:blipFill>
          <a:blip r:embed="rId2"/>
          <a:stretch/>
        </p:blipFill>
        <p:spPr>
          <a:xfrm>
            <a:off x="819000" y="2000160"/>
            <a:ext cx="7610760" cy="52380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6" descr=""/>
          <p:cNvPicPr/>
          <p:nvPr/>
        </p:nvPicPr>
        <p:blipFill>
          <a:blip r:embed="rId3"/>
          <a:stretch/>
        </p:blipFill>
        <p:spPr>
          <a:xfrm>
            <a:off x="846000" y="2976480"/>
            <a:ext cx="7610760" cy="52380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6" descr=""/>
          <p:cNvPicPr/>
          <p:nvPr/>
        </p:nvPicPr>
        <p:blipFill>
          <a:blip r:embed="rId4"/>
          <a:stretch/>
        </p:blipFill>
        <p:spPr>
          <a:xfrm>
            <a:off x="868320" y="3905280"/>
            <a:ext cx="7610400" cy="52380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6" descr=""/>
          <p:cNvPicPr/>
          <p:nvPr/>
        </p:nvPicPr>
        <p:blipFill>
          <a:blip r:embed="rId5"/>
          <a:stretch/>
        </p:blipFill>
        <p:spPr>
          <a:xfrm>
            <a:off x="857160" y="4834080"/>
            <a:ext cx="7610400" cy="52380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6" descr=""/>
          <p:cNvPicPr/>
          <p:nvPr/>
        </p:nvPicPr>
        <p:blipFill>
          <a:blip r:embed="rId6"/>
          <a:stretch/>
        </p:blipFill>
        <p:spPr>
          <a:xfrm>
            <a:off x="853920" y="5834160"/>
            <a:ext cx="761076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7" name="Picture 1" descr=""/>
          <p:cNvPicPr/>
          <p:nvPr/>
        </p:nvPicPr>
        <p:blipFill>
          <a:blip r:embed="rId1"/>
          <a:stretch/>
        </p:blipFill>
        <p:spPr>
          <a:xfrm>
            <a:off x="114480" y="826920"/>
            <a:ext cx="8915400" cy="490572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2" descr=""/>
          <p:cNvPicPr/>
          <p:nvPr/>
        </p:nvPicPr>
        <p:blipFill>
          <a:blip r:embed="rId2"/>
          <a:stretch/>
        </p:blipFill>
        <p:spPr>
          <a:xfrm>
            <a:off x="495360" y="5746680"/>
            <a:ext cx="7829640" cy="10857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4" descr=""/>
          <p:cNvPicPr/>
          <p:nvPr/>
        </p:nvPicPr>
        <p:blipFill>
          <a:blip r:embed="rId3"/>
          <a:stretch/>
        </p:blipFill>
        <p:spPr>
          <a:xfrm>
            <a:off x="743040" y="330192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4" descr=""/>
          <p:cNvPicPr/>
          <p:nvPr/>
        </p:nvPicPr>
        <p:blipFill>
          <a:blip r:embed="rId4"/>
          <a:stretch/>
        </p:blipFill>
        <p:spPr>
          <a:xfrm>
            <a:off x="681120" y="413856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4" descr=""/>
          <p:cNvPicPr/>
          <p:nvPr/>
        </p:nvPicPr>
        <p:blipFill>
          <a:blip r:embed="rId5"/>
          <a:stretch/>
        </p:blipFill>
        <p:spPr>
          <a:xfrm>
            <a:off x="714240" y="497052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4" descr=""/>
          <p:cNvPicPr/>
          <p:nvPr/>
        </p:nvPicPr>
        <p:blipFill>
          <a:blip r:embed="rId6"/>
          <a:stretch/>
        </p:blipFill>
        <p:spPr>
          <a:xfrm>
            <a:off x="701640" y="5697360"/>
            <a:ext cx="36036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15" name="Picture 1" descr=""/>
          <p:cNvPicPr/>
          <p:nvPr/>
        </p:nvPicPr>
        <p:blipFill>
          <a:blip r:embed="rId1"/>
          <a:stretch/>
        </p:blipFill>
        <p:spPr>
          <a:xfrm>
            <a:off x="523800" y="907920"/>
            <a:ext cx="8096400" cy="11239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4" descr=""/>
          <p:cNvPicPr/>
          <p:nvPr/>
        </p:nvPicPr>
        <p:blipFill>
          <a:blip r:embed="rId2"/>
          <a:stretch/>
        </p:blipFill>
        <p:spPr>
          <a:xfrm>
            <a:off x="714240" y="878040"/>
            <a:ext cx="3603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2" descr=""/>
          <p:cNvPicPr/>
          <p:nvPr/>
        </p:nvPicPr>
        <p:blipFill>
          <a:blip r:embed="rId1"/>
          <a:stretch/>
        </p:blipFill>
        <p:spPr>
          <a:xfrm>
            <a:off x="3500280" y="1774800"/>
            <a:ext cx="2143440" cy="285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3" descr=""/>
          <p:cNvPicPr/>
          <p:nvPr/>
        </p:nvPicPr>
        <p:blipFill>
          <a:blip r:embed="rId2"/>
          <a:stretch/>
        </p:blipFill>
        <p:spPr>
          <a:xfrm>
            <a:off x="123840" y="2717640"/>
            <a:ext cx="8896320" cy="29433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3"/>
          <a:stretch/>
        </p:blipFill>
        <p:spPr>
          <a:xfrm>
            <a:off x="781200" y="308124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4"/>
          <a:stretch/>
        </p:blipFill>
        <p:spPr>
          <a:xfrm>
            <a:off x="755640" y="34606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5"/>
          <a:stretch/>
        </p:blipFill>
        <p:spPr>
          <a:xfrm>
            <a:off x="755640" y="385920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6"/>
          <a:stretch/>
        </p:blipFill>
        <p:spPr>
          <a:xfrm>
            <a:off x="755640" y="427824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7"/>
          <a:stretch/>
        </p:blipFill>
        <p:spPr>
          <a:xfrm>
            <a:off x="755640" y="4697280"/>
            <a:ext cx="36036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133200" y="1792440"/>
            <a:ext cx="8877600" cy="37242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2"/>
          <a:stretch/>
        </p:blipFill>
        <p:spPr>
          <a:xfrm>
            <a:off x="1042920" y="3259080"/>
            <a:ext cx="360360" cy="2541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3"/>
          <a:stretch/>
        </p:blipFill>
        <p:spPr>
          <a:xfrm>
            <a:off x="2771640" y="3236760"/>
            <a:ext cx="360360" cy="2541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4"/>
          <a:stretch/>
        </p:blipFill>
        <p:spPr>
          <a:xfrm>
            <a:off x="4500720" y="3259080"/>
            <a:ext cx="358560" cy="2541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5"/>
          <a:stretch/>
        </p:blipFill>
        <p:spPr>
          <a:xfrm>
            <a:off x="6300720" y="3259080"/>
            <a:ext cx="358920" cy="2541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6"/>
          <a:stretch/>
        </p:blipFill>
        <p:spPr>
          <a:xfrm>
            <a:off x="8028000" y="3236760"/>
            <a:ext cx="36036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Picture 1" descr=""/>
          <p:cNvPicPr/>
          <p:nvPr/>
        </p:nvPicPr>
        <p:blipFill>
          <a:blip r:embed="rId1"/>
          <a:stretch/>
        </p:blipFill>
        <p:spPr>
          <a:xfrm>
            <a:off x="128520" y="1844640"/>
            <a:ext cx="8886960" cy="22575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2" descr=""/>
          <p:cNvPicPr/>
          <p:nvPr/>
        </p:nvPicPr>
        <p:blipFill>
          <a:blip r:embed="rId2"/>
          <a:stretch/>
        </p:blipFill>
        <p:spPr>
          <a:xfrm>
            <a:off x="309600" y="4365720"/>
            <a:ext cx="8524800" cy="9237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3"/>
          <a:stretch/>
        </p:blipFill>
        <p:spPr>
          <a:xfrm>
            <a:off x="781200" y="222732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4"/>
          <a:stretch/>
        </p:blipFill>
        <p:spPr>
          <a:xfrm>
            <a:off x="755640" y="260676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5"/>
          <a:stretch/>
        </p:blipFill>
        <p:spPr>
          <a:xfrm>
            <a:off x="755640" y="300528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6"/>
          <a:stretch/>
        </p:blipFill>
        <p:spPr>
          <a:xfrm>
            <a:off x="755640" y="342432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7"/>
          <a:stretch/>
        </p:blipFill>
        <p:spPr>
          <a:xfrm>
            <a:off x="755640" y="3843360"/>
            <a:ext cx="3603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Picture 1" descr=""/>
          <p:cNvPicPr/>
          <p:nvPr/>
        </p:nvPicPr>
        <p:blipFill>
          <a:blip r:embed="rId1"/>
          <a:stretch/>
        </p:blipFill>
        <p:spPr>
          <a:xfrm>
            <a:off x="3462480" y="907920"/>
            <a:ext cx="2219040" cy="3142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2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105760" cy="22572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3" descr=""/>
          <p:cNvPicPr/>
          <p:nvPr/>
        </p:nvPicPr>
        <p:blipFill>
          <a:blip r:embed="rId3"/>
          <a:stretch/>
        </p:blipFill>
        <p:spPr>
          <a:xfrm>
            <a:off x="247680" y="3933720"/>
            <a:ext cx="8648640" cy="28576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4"/>
          <a:stretch/>
        </p:blipFill>
        <p:spPr>
          <a:xfrm>
            <a:off x="950760" y="178596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5"/>
          <a:stretch/>
        </p:blipFill>
        <p:spPr>
          <a:xfrm>
            <a:off x="925560" y="216540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6"/>
          <a:stretch/>
        </p:blipFill>
        <p:spPr>
          <a:xfrm>
            <a:off x="925560" y="256392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7"/>
          <a:stretch/>
        </p:blipFill>
        <p:spPr>
          <a:xfrm>
            <a:off x="925560" y="298296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8"/>
          <a:stretch/>
        </p:blipFill>
        <p:spPr>
          <a:xfrm>
            <a:off x="925560" y="340200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1" descr=""/>
          <p:cNvPicPr/>
          <p:nvPr/>
        </p:nvPicPr>
        <p:blipFill>
          <a:blip r:embed="rId9"/>
          <a:stretch/>
        </p:blipFill>
        <p:spPr>
          <a:xfrm>
            <a:off x="928800" y="6334200"/>
            <a:ext cx="1714320" cy="5238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1" descr=""/>
          <p:cNvPicPr/>
          <p:nvPr/>
        </p:nvPicPr>
        <p:blipFill>
          <a:blip r:embed="rId10"/>
          <a:stretch/>
        </p:blipFill>
        <p:spPr>
          <a:xfrm>
            <a:off x="2928960" y="6334200"/>
            <a:ext cx="1714320" cy="52380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1" descr=""/>
          <p:cNvPicPr/>
          <p:nvPr/>
        </p:nvPicPr>
        <p:blipFill>
          <a:blip r:embed="rId11"/>
          <a:stretch/>
        </p:blipFill>
        <p:spPr>
          <a:xfrm>
            <a:off x="5000760" y="6334200"/>
            <a:ext cx="1714320" cy="5238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1" descr=""/>
          <p:cNvPicPr/>
          <p:nvPr/>
        </p:nvPicPr>
        <p:blipFill>
          <a:blip r:embed="rId12"/>
          <a:stretch/>
        </p:blipFill>
        <p:spPr>
          <a:xfrm>
            <a:off x="6858000" y="6334200"/>
            <a:ext cx="214308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7" name="Picture 1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7886520" cy="50194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2" descr=""/>
          <p:cNvPicPr/>
          <p:nvPr/>
        </p:nvPicPr>
        <p:blipFill>
          <a:blip r:embed="rId2"/>
          <a:stretch/>
        </p:blipFill>
        <p:spPr>
          <a:xfrm>
            <a:off x="685800" y="5950080"/>
            <a:ext cx="7772400" cy="65700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3"/>
          <a:stretch/>
        </p:blipFill>
        <p:spPr>
          <a:xfrm>
            <a:off x="958680" y="12142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4"/>
          <a:stretch/>
        </p:blipFill>
        <p:spPr>
          <a:xfrm>
            <a:off x="925560" y="202104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5"/>
          <a:stretch/>
        </p:blipFill>
        <p:spPr>
          <a:xfrm>
            <a:off x="996840" y="283212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6"/>
          <a:stretch/>
        </p:blipFill>
        <p:spPr>
          <a:xfrm>
            <a:off x="950760" y="397044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7"/>
          <a:stretch/>
        </p:blipFill>
        <p:spPr>
          <a:xfrm>
            <a:off x="950760" y="475632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8"/>
          <a:stretch/>
        </p:blipFill>
        <p:spPr>
          <a:xfrm>
            <a:off x="925560" y="5899320"/>
            <a:ext cx="3603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7" name="Picture 1" descr=""/>
          <p:cNvPicPr/>
          <p:nvPr/>
        </p:nvPicPr>
        <p:blipFill>
          <a:blip r:embed="rId1"/>
          <a:stretch/>
        </p:blipFill>
        <p:spPr>
          <a:xfrm>
            <a:off x="1195560" y="1050840"/>
            <a:ext cx="6752880" cy="396252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2" descr=""/>
          <p:cNvPicPr/>
          <p:nvPr/>
        </p:nvPicPr>
        <p:blipFill>
          <a:blip r:embed="rId2"/>
          <a:stretch/>
        </p:blipFill>
        <p:spPr>
          <a:xfrm>
            <a:off x="1541520" y="5122800"/>
            <a:ext cx="6343560" cy="111456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3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4"/>
          <a:stretch/>
        </p:blipFill>
        <p:spPr>
          <a:xfrm>
            <a:off x="3214800" y="1882800"/>
            <a:ext cx="785880" cy="3157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4" descr=""/>
          <p:cNvPicPr/>
          <p:nvPr/>
        </p:nvPicPr>
        <p:blipFill>
          <a:blip r:embed="rId5"/>
          <a:stretch/>
        </p:blipFill>
        <p:spPr>
          <a:xfrm>
            <a:off x="5286240" y="3071880"/>
            <a:ext cx="571680" cy="31572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6"/>
          <a:stretch/>
        </p:blipFill>
        <p:spPr>
          <a:xfrm>
            <a:off x="4786200" y="4273560"/>
            <a:ext cx="714600" cy="3160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"/>
          <p:cNvPicPr/>
          <p:nvPr/>
        </p:nvPicPr>
        <p:blipFill>
          <a:blip r:embed="rId7"/>
          <a:stretch/>
        </p:blipFill>
        <p:spPr>
          <a:xfrm>
            <a:off x="2786040" y="5500800"/>
            <a:ext cx="78588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6" name="Picture 2" descr=""/>
          <p:cNvPicPr/>
          <p:nvPr/>
        </p:nvPicPr>
        <p:blipFill>
          <a:blip r:embed="rId1"/>
          <a:stretch/>
        </p:blipFill>
        <p:spPr>
          <a:xfrm>
            <a:off x="1380960" y="1004760"/>
            <a:ext cx="6382080" cy="48294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3" descr=""/>
          <p:cNvPicPr/>
          <p:nvPr/>
        </p:nvPicPr>
        <p:blipFill>
          <a:blip r:embed="rId2"/>
          <a:stretch/>
        </p:blipFill>
        <p:spPr>
          <a:xfrm>
            <a:off x="1763640" y="5902200"/>
            <a:ext cx="3314880" cy="6955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4" descr=""/>
          <p:cNvPicPr/>
          <p:nvPr/>
        </p:nvPicPr>
        <p:blipFill>
          <a:blip r:embed="rId3"/>
          <a:stretch/>
        </p:blipFill>
        <p:spPr>
          <a:xfrm>
            <a:off x="5500800" y="1382760"/>
            <a:ext cx="714240" cy="31572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4" descr=""/>
          <p:cNvPicPr/>
          <p:nvPr/>
        </p:nvPicPr>
        <p:blipFill>
          <a:blip r:embed="rId4"/>
          <a:stretch/>
        </p:blipFill>
        <p:spPr>
          <a:xfrm>
            <a:off x="4319640" y="261792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4" descr=""/>
          <p:cNvPicPr/>
          <p:nvPr/>
        </p:nvPicPr>
        <p:blipFill>
          <a:blip r:embed="rId5"/>
          <a:stretch/>
        </p:blipFill>
        <p:spPr>
          <a:xfrm>
            <a:off x="3963960" y="301320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4" descr=""/>
          <p:cNvPicPr/>
          <p:nvPr/>
        </p:nvPicPr>
        <p:blipFill>
          <a:blip r:embed="rId6"/>
          <a:stretch/>
        </p:blipFill>
        <p:spPr>
          <a:xfrm>
            <a:off x="2997360" y="425592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4" descr=""/>
          <p:cNvPicPr/>
          <p:nvPr/>
        </p:nvPicPr>
        <p:blipFill>
          <a:blip r:embed="rId7"/>
          <a:stretch/>
        </p:blipFill>
        <p:spPr>
          <a:xfrm>
            <a:off x="2997360" y="465948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4" descr=""/>
          <p:cNvPicPr/>
          <p:nvPr/>
        </p:nvPicPr>
        <p:blipFill>
          <a:blip r:embed="rId8"/>
          <a:stretch/>
        </p:blipFill>
        <p:spPr>
          <a:xfrm>
            <a:off x="2997360" y="5483160"/>
            <a:ext cx="36036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6" name="Picture 1" descr=""/>
          <p:cNvPicPr/>
          <p:nvPr/>
        </p:nvPicPr>
        <p:blipFill>
          <a:blip r:embed="rId1"/>
          <a:stretch/>
        </p:blipFill>
        <p:spPr>
          <a:xfrm>
            <a:off x="1805040" y="1114560"/>
            <a:ext cx="553392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3:14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